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89DFA83-6143-4C7A-9685-4DE66E8FD38E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en-US"/>
        </a:p>
      </dgm:t>
    </dgm:pt>
    <dgm:pt modelId="{E247E80A-806A-4780-9082-E8E45089007F}">
      <dgm:prSet/>
      <dgm:spPr/>
      <dgm:t>
        <a:bodyPr/>
        <a:lstStyle/>
        <a:p>
          <a:pPr rtl="0"/>
          <a:r>
            <a:rPr lang="en-US" baseline="0" smtClean="0"/>
            <a:t>Karl Marx</a:t>
          </a:r>
          <a:endParaRPr lang="en-US"/>
        </a:p>
      </dgm:t>
    </dgm:pt>
    <dgm:pt modelId="{A88DEC98-5E6A-4473-9E57-BB1171624419}" type="parTrans" cxnId="{9FEF1A42-8CA3-43D1-AE02-1F889EF30FFE}">
      <dgm:prSet/>
      <dgm:spPr/>
      <dgm:t>
        <a:bodyPr/>
        <a:lstStyle/>
        <a:p>
          <a:endParaRPr lang="en-US"/>
        </a:p>
      </dgm:t>
    </dgm:pt>
    <dgm:pt modelId="{C19A12AC-308E-4E52-96D8-BC7B2F8C5B8F}" type="sibTrans" cxnId="{9FEF1A42-8CA3-43D1-AE02-1F889EF30FFE}">
      <dgm:prSet/>
      <dgm:spPr/>
      <dgm:t>
        <a:bodyPr/>
        <a:lstStyle/>
        <a:p>
          <a:endParaRPr lang="en-US"/>
        </a:p>
      </dgm:t>
    </dgm:pt>
    <dgm:pt modelId="{3B61889E-B233-4074-B53A-747603856618}">
      <dgm:prSet/>
      <dgm:spPr/>
      <dgm:t>
        <a:bodyPr/>
        <a:lstStyle/>
        <a:p>
          <a:pPr rtl="0"/>
          <a:r>
            <a:rPr lang="en-US" baseline="0" dirty="0" smtClean="0"/>
            <a:t>Wrote the </a:t>
          </a:r>
          <a:r>
            <a:rPr lang="en-US" i="1" baseline="0" dirty="0" smtClean="0"/>
            <a:t>Communist Manifesto, </a:t>
          </a:r>
          <a:r>
            <a:rPr lang="en-US" baseline="0" dirty="0" smtClean="0"/>
            <a:t>one of the world’s most famous manifestos. </a:t>
          </a:r>
          <a:endParaRPr lang="en-US" dirty="0"/>
        </a:p>
      </dgm:t>
    </dgm:pt>
    <dgm:pt modelId="{85A862B9-6CB6-4736-9825-778E16EB96B4}" type="parTrans" cxnId="{3B9527C4-5FEE-4CBE-BF3C-94FF6B237126}">
      <dgm:prSet/>
      <dgm:spPr/>
      <dgm:t>
        <a:bodyPr/>
        <a:lstStyle/>
        <a:p>
          <a:endParaRPr lang="en-US"/>
        </a:p>
      </dgm:t>
    </dgm:pt>
    <dgm:pt modelId="{DC17101C-7822-43AD-8F51-0BA7239769EF}" type="sibTrans" cxnId="{3B9527C4-5FEE-4CBE-BF3C-94FF6B237126}">
      <dgm:prSet/>
      <dgm:spPr/>
      <dgm:t>
        <a:bodyPr/>
        <a:lstStyle/>
        <a:p>
          <a:endParaRPr lang="en-US"/>
        </a:p>
      </dgm:t>
    </dgm:pt>
    <dgm:pt modelId="{E5ECDA5E-FFB0-4421-9406-43C77FAC98A7}" type="pres">
      <dgm:prSet presAssocID="{589DFA83-6143-4C7A-9685-4DE66E8FD38E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0E987E5D-D37C-40DB-9E4C-70F8D70666AD}" type="pres">
      <dgm:prSet presAssocID="{E247E80A-806A-4780-9082-E8E45089007F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1AA8B91-8E74-472E-913E-F44726770A16}" type="pres">
      <dgm:prSet presAssocID="{C19A12AC-308E-4E52-96D8-BC7B2F8C5B8F}" presName="spacer" presStyleCnt="0"/>
      <dgm:spPr/>
    </dgm:pt>
    <dgm:pt modelId="{5BEAD4A7-FDD6-4C2F-A8DF-C6C0AD3FB836}" type="pres">
      <dgm:prSet presAssocID="{3B61889E-B233-4074-B53A-747603856618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31EAD771-1641-414D-BFEE-FB46540CF85D}" type="presOf" srcId="{589DFA83-6143-4C7A-9685-4DE66E8FD38E}" destId="{E5ECDA5E-FFB0-4421-9406-43C77FAC98A7}" srcOrd="0" destOrd="0" presId="urn:microsoft.com/office/officeart/2005/8/layout/vList2"/>
    <dgm:cxn modelId="{3B9527C4-5FEE-4CBE-BF3C-94FF6B237126}" srcId="{589DFA83-6143-4C7A-9685-4DE66E8FD38E}" destId="{3B61889E-B233-4074-B53A-747603856618}" srcOrd="1" destOrd="0" parTransId="{85A862B9-6CB6-4736-9825-778E16EB96B4}" sibTransId="{DC17101C-7822-43AD-8F51-0BA7239769EF}"/>
    <dgm:cxn modelId="{D2ACE77A-C9F1-479E-964B-42256639EAEF}" type="presOf" srcId="{3B61889E-B233-4074-B53A-747603856618}" destId="{5BEAD4A7-FDD6-4C2F-A8DF-C6C0AD3FB836}" srcOrd="0" destOrd="0" presId="urn:microsoft.com/office/officeart/2005/8/layout/vList2"/>
    <dgm:cxn modelId="{9FEF1A42-8CA3-43D1-AE02-1F889EF30FFE}" srcId="{589DFA83-6143-4C7A-9685-4DE66E8FD38E}" destId="{E247E80A-806A-4780-9082-E8E45089007F}" srcOrd="0" destOrd="0" parTransId="{A88DEC98-5E6A-4473-9E57-BB1171624419}" sibTransId="{C19A12AC-308E-4E52-96D8-BC7B2F8C5B8F}"/>
    <dgm:cxn modelId="{0B95191F-ED61-4F67-80B8-1EC166DA2E9A}" type="presOf" srcId="{E247E80A-806A-4780-9082-E8E45089007F}" destId="{0E987E5D-D37C-40DB-9E4C-70F8D70666AD}" srcOrd="0" destOrd="0" presId="urn:microsoft.com/office/officeart/2005/8/layout/vList2"/>
    <dgm:cxn modelId="{C8365735-CE73-47C5-B23D-8E42780D2204}" type="presParOf" srcId="{E5ECDA5E-FFB0-4421-9406-43C77FAC98A7}" destId="{0E987E5D-D37C-40DB-9E4C-70F8D70666AD}" srcOrd="0" destOrd="0" presId="urn:microsoft.com/office/officeart/2005/8/layout/vList2"/>
    <dgm:cxn modelId="{CAE5BB36-368E-498E-9710-D235B688C8D9}" type="presParOf" srcId="{E5ECDA5E-FFB0-4421-9406-43C77FAC98A7}" destId="{01AA8B91-8E74-472E-913E-F44726770A16}" srcOrd="1" destOrd="0" presId="urn:microsoft.com/office/officeart/2005/8/layout/vList2"/>
    <dgm:cxn modelId="{972D06E3-A7F4-4DF4-950D-511571E6C536}" type="presParOf" srcId="{E5ECDA5E-FFB0-4421-9406-43C77FAC98A7}" destId="{5BEAD4A7-FDD6-4C2F-A8DF-C6C0AD3FB836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E987E5D-D37C-40DB-9E4C-70F8D70666AD}">
      <dsp:nvSpPr>
        <dsp:cNvPr id="0" name=""/>
        <dsp:cNvSpPr/>
      </dsp:nvSpPr>
      <dsp:spPr>
        <a:xfrm>
          <a:off x="0" y="149932"/>
          <a:ext cx="4038600" cy="2010571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000" kern="1200" baseline="0" smtClean="0"/>
            <a:t>Karl Marx</a:t>
          </a:r>
          <a:endParaRPr lang="en-US" sz="3000" kern="1200"/>
        </a:p>
      </dsp:txBody>
      <dsp:txXfrm>
        <a:off x="0" y="149932"/>
        <a:ext cx="4038600" cy="2010571"/>
      </dsp:txXfrm>
    </dsp:sp>
    <dsp:sp modelId="{5BEAD4A7-FDD6-4C2F-A8DF-C6C0AD3FB836}">
      <dsp:nvSpPr>
        <dsp:cNvPr id="0" name=""/>
        <dsp:cNvSpPr/>
      </dsp:nvSpPr>
      <dsp:spPr>
        <a:xfrm>
          <a:off x="0" y="2246904"/>
          <a:ext cx="4038600" cy="2010571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000" kern="1200" baseline="0" dirty="0" smtClean="0"/>
            <a:t>Wrote the </a:t>
          </a:r>
          <a:r>
            <a:rPr lang="en-US" sz="3000" i="1" kern="1200" baseline="0" dirty="0" smtClean="0"/>
            <a:t>Communist Manifesto, </a:t>
          </a:r>
          <a:r>
            <a:rPr lang="en-US" sz="3000" kern="1200" baseline="0" dirty="0" smtClean="0"/>
            <a:t>one of the world’s most famous manifestos. </a:t>
          </a:r>
          <a:endParaRPr lang="en-US" sz="3000" kern="1200" dirty="0"/>
        </a:p>
      </dsp:txBody>
      <dsp:txXfrm>
        <a:off x="0" y="2246904"/>
        <a:ext cx="4038600" cy="2010571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E463-1BF6-4D07-8C7E-BFA15340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3F88-0667-42D1-87A0-1D93369C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6A4E-67F7-4B6C-AD79-B86EEE7D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7298-BDC2-48DC-9FD6-E5874F57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51E0-2EA0-4C91-AB51-E4F163D2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B1C8-D09C-4B10-ACA1-96F0748A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A969-60D4-4508-A931-10CC6974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4B9D-5B77-4670-A214-5216E92D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BC86-2728-4A67-83F4-4066D2FD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533D-0CC3-4E1E-B185-5DA4CEDD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D99F-E9C9-49AD-AAC1-C11B2E6F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F1D2-C780-44DA-B2F6-5E8BEEAE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6B0E-EED2-4B47-96E8-BB48BCA2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97A0-90A6-456D-A9CB-4B683AC6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3F45-E144-4118-921B-DB9E0AAD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21E1-166D-4059-ADFF-915192EE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E58A-7ED9-42CF-ADCB-6D30708A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A9F8-5C60-458C-943A-5C11CED6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74FD-BB37-4459-9237-AD84DE5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5B88-6C9E-4D49-9E06-D93817DC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0932-491D-4E0F-9276-2D73D9A3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9A97-4593-4A37-8573-2A623AF1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1613-0571-4D67-840F-88FDD823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AFBC-4395-4B63-9A76-B10D2ABD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3D62-47D6-422D-B24B-75CBBAC6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04E3-02A1-4612-A0AE-35DA0E8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859F-3E44-482C-99C3-FEA4833D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B1A58-B175-4B6F-9A87-79C2E286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B11A-F21E-498F-88C3-DAF2F8E4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BB28-80C7-4906-A988-7EB743B9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F6CA9-67AA-4E3D-BCBF-261EC247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2A446-DF5E-47A0-B081-DE8743AA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B7199C-0ABA-4435-85F1-698F87C5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DB4A-583E-4F87-A9EA-DA8DB724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A970D-0518-4636-AB38-68E51200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79991-1D5E-4681-BE48-5A1C1A58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DAEA6-B44A-4873-A1B4-F86471DE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BEED3-BBA0-4DBF-8E56-89A3F18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CAC3B-B01C-406C-BEED-642B4D2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DDF2B-3F0F-44A4-89E8-4AFAD9E0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3A7A6-E934-4901-9FFA-70457F3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7F4EF-C04D-4A92-8FFD-50E1CBC1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1731E-54E0-4B5A-8351-23133601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3CB8-1AAB-48F6-A3CA-C0E26DAC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F707F-2B7A-4935-986C-F6ECB07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B740-9673-48B3-80BD-103330B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A46D8-9EED-481F-BB0A-0046E3D9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B669C-71B5-4EC8-9CAC-999D38D0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52E6-23E9-4041-B984-2884FFD4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B2989-27FF-4E02-B47C-7C3FBD25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7A4BF-1D62-4FF9-AA71-7A31864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BA50-9670-4634-BE47-10B2F92C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21525-9C74-4DB1-92D3-31018DB0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8BA5-44D4-416A-AA31-A0C0ADC7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2B676-287D-4657-9D4C-54D21D95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AE26-8570-4A4D-B631-DE2E28BD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0212-D1DA-4E5A-BCFB-2B7F1DB7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D093-A96B-42A2-B0E2-D507D932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7FBC-7BA0-407D-ADE4-9B08D10A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9864-054A-42BA-B76E-032DC37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7010280" y="152280"/>
            <a:ext cx="1980720" cy="65559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152280" y="154080"/>
            <a:ext cx="6705360" cy="65527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ccd1b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A427CE-9300-4F67-835D-688D50C217A5}" type="slidenum">
              <a:rPr b="0" lang="en-US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3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053080"/>
            <a:ext cx="6324120" cy="18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200" spc="148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148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97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97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13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479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24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24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360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360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479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24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24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360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360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2A7E04D-ABC1-49DD-B984-E1412FB22F98}" type="slidenum"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0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360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32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16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281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4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261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3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3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8295665-2340-4995-B72F-F4CE375508F7}" type="slidenum"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 hidden="1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33" name="Rectangle 7" hidden="1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7010280" y="152280"/>
            <a:ext cx="1980720" cy="65559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52280" y="154080"/>
            <a:ext cx="6705360" cy="6552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162920" y="2892240"/>
            <a:ext cx="1599840" cy="164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148" strike="noStrike">
                <a:solidFill>
                  <a:srgbClr val="ccd1b9"/>
                </a:solidFill>
                <a:latin typeface="Franklin Gothic Medium"/>
              </a:rPr>
              <a:t>Click to edit Master text styles</a:t>
            </a: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1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8460C8-3197-4D28-9728-176BCAD69478}" type="slidenum">
              <a:rPr b="0" lang="en-US" sz="1100" spc="-1" strike="noStrike">
                <a:solidFill>
                  <a:srgbClr val="ccd1b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2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title"/>
          </p:nvPr>
        </p:nvSpPr>
        <p:spPr>
          <a:xfrm>
            <a:off x="380880" y="2892240"/>
            <a:ext cx="6324120" cy="164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200" spc="148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57200" y="172260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403992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479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320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6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body"/>
          </p:nvPr>
        </p:nvSpPr>
        <p:spPr>
          <a:xfrm>
            <a:off x="4645080" y="172260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4645080" y="2438280"/>
            <a:ext cx="40413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479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320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6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3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ftr" idx="14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 type="sldNum" idx="15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B95CAF-152E-4005-9898-48FED9501754}" type="slidenum"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8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7010280" y="2053080"/>
            <a:ext cx="1980720" cy="18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380"/>
              </a:spcBef>
              <a:tabLst>
                <a:tab algn="l" pos="0"/>
              </a:tabLst>
            </a:pPr>
            <a:r>
              <a:rPr b="0" lang="en-US" sz="1900" spc="148" strike="noStrike">
                <a:solidFill>
                  <a:srgbClr val="ffffff"/>
                </a:solidFill>
                <a:latin typeface="Franklin Gothic Medium"/>
              </a:rPr>
              <a:t>What is a manifesto and how do I use on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7200" y="2053080"/>
            <a:ext cx="6324120" cy="18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200" spc="148" strike="noStrike" cap="all">
                <a:solidFill>
                  <a:srgbClr val="ffffff"/>
                </a:solidFill>
                <a:latin typeface="Franklin Gothic Medium"/>
              </a:rPr>
              <a:t>The manifesto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As with any piece of writing, the writer of a manifesto needs a good place to generate ideas from. 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here do I get started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3156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FREE-WRITING!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4697640" cy="31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936250613"/>
              </p:ext>
            </p:extLst>
          </p:nvPr>
        </p:nvGraphicFramePr>
        <p:xfrm>
          <a:off x="457200" y="1719000"/>
          <a:ext cx="4038120" cy="4407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The manifes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6" name="Content Placeholder 3" descr=""/>
          <p:cNvPicPr/>
          <p:nvPr/>
        </p:nvPicPr>
        <p:blipFill>
          <a:blip r:embed="rId6"/>
          <a:stretch/>
        </p:blipFill>
        <p:spPr>
          <a:xfrm>
            <a:off x="4648320" y="1903320"/>
            <a:ext cx="4038120" cy="40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i="1" lang="en-US" sz="2800" spc="148" strike="noStrike">
                <a:solidFill>
                  <a:srgbClr val="534949"/>
                </a:solidFill>
                <a:latin typeface="Franklin Gothic Medium"/>
              </a:rPr>
              <a:t>Manifesto</a:t>
            </a: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: </a:t>
            </a: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a public declaration of principles, intentions, objectives, opinions, or motives.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hat is a manifesto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393000" cy="43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i="1" lang="en-US" sz="3200" spc="148" strike="noStrike">
                <a:solidFill>
                  <a:srgbClr val="534949"/>
                </a:solidFill>
                <a:latin typeface="Franklin Gothic Medium"/>
              </a:rPr>
              <a:t>The Communist Manifesto</a:t>
            </a: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, Karl Marx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The </a:t>
            </a:r>
            <a:r>
              <a:rPr b="0" i="1" lang="en-US" sz="3200" spc="148" strike="noStrike">
                <a:solidFill>
                  <a:srgbClr val="534949"/>
                </a:solidFill>
                <a:latin typeface="Franklin Gothic Medium"/>
              </a:rPr>
              <a:t>United States Declaration of Independence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The </a:t>
            </a:r>
            <a:r>
              <a:rPr b="0" i="1" lang="en-US" sz="3200" spc="148" strike="noStrike">
                <a:solidFill>
                  <a:srgbClr val="534949"/>
                </a:solidFill>
                <a:latin typeface="Franklin Gothic Medium"/>
              </a:rPr>
              <a:t>Declaration of the Rights of Man and Citizen</a:t>
            </a: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 during the French Revolution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i="1" lang="en-US" sz="3200" spc="148" strike="noStrike">
                <a:solidFill>
                  <a:srgbClr val="534949"/>
                </a:solidFill>
                <a:latin typeface="Franklin Gothic Medium"/>
              </a:rPr>
              <a:t>The Port Huron Statement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Famous manifesto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7162920" y="2892240"/>
            <a:ext cx="1599840" cy="164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380880" y="2892240"/>
            <a:ext cx="6324120" cy="164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200" spc="148" strike="noStrike" cap="all">
                <a:solidFill>
                  <a:srgbClr val="ffffff"/>
                </a:solidFill>
                <a:latin typeface="Franklin Gothic Medium"/>
              </a:rPr>
              <a:t>How do I make my own manifesto?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130160" y="3048120"/>
            <a:ext cx="1780920" cy="14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You can write a manifesto on just about any topic. Traditionally, manifestos are political in nature, but you can write about your beliefs on any topic. 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riting a manifes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722600"/>
            <a:ext cx="403992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b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99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5080" y="172260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45080" y="1752480"/>
            <a:ext cx="40413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2360" indent="-210240">
              <a:lnSpc>
                <a:spcPct val="100000"/>
              </a:lnSpc>
              <a:spcBef>
                <a:spcPts val="479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Write about something you are passionate about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  <a:p>
            <a:pPr marL="252360" indent="-210240">
              <a:lnSpc>
                <a:spcPct val="100000"/>
              </a:lnSpc>
              <a:spcBef>
                <a:spcPts val="479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It may help to write about something you want to see change in, i.e. laws, policies, spiritual beliefs, the roles of people in society, social change.</a:t>
            </a: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                 </a:t>
            </a:r>
            <a:r>
              <a:rPr b="0" lang="en-US" sz="1050" spc="148" strike="noStrike">
                <a:solidFill>
                  <a:srgbClr val="534949"/>
                </a:solidFill>
                <a:latin typeface="Franklin Gothic Medium"/>
              </a:rPr>
              <a:t>        </a:t>
            </a:r>
            <a:endParaRPr b="0" lang="en-US" sz="105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210"/>
              </a:spcBef>
              <a:buNone/>
            </a:pPr>
            <a:endParaRPr b="0" lang="en-US" sz="1050" spc="148" strike="noStrike">
              <a:solidFill>
                <a:srgbClr val="534949"/>
              </a:solidFill>
              <a:latin typeface="Franklin Gothic Medium"/>
            </a:endParaRPr>
          </a:p>
          <a:p>
            <a:pPr marL="252360" indent="-210240">
              <a:lnSpc>
                <a:spcPct val="100000"/>
              </a:lnSpc>
              <a:spcBef>
                <a:spcPts val="210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1050" spc="148" strike="noStrike">
                <a:solidFill>
                  <a:srgbClr val="534949"/>
                </a:solidFill>
                <a:latin typeface="Franklin Gothic Medium"/>
              </a:rPr>
              <a:t>Note: Manifestos written about religious topics are often referred to as creeds. </a:t>
            </a:r>
            <a:endParaRPr b="0" lang="en-US" sz="105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riting a manifesto (cont.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16520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Don’t feel pressured to change the world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Your topic doesn’t have to take on a monumental scale—in fact, it shouldn’t. 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riting a manifes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419720" y="2427120"/>
            <a:ext cx="4447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Choose a focused topic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Be careful and concise with your ideas and writing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Stay on topic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A manifesto is not a rant.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riting a manifesto (cont.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4648320" y="1897200"/>
            <a:ext cx="4038120" cy="40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2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Grid</Template>
  <TotalTime>93</TotalTime>
  <Application>LibreOffice/7.4.7.2$Linux_X86_64 LibreOffice_project/40$Build-2</Application>
  <AppVersion>15.0000</AppVersion>
  <Words>255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0:49:51Z</dcterms:created>
  <dc:creator>Slim Limpkins</dc:creator>
  <dc:description/>
  <dc:language>en-US</dc:language>
  <cp:lastModifiedBy>mark</cp:lastModifiedBy>
  <dcterms:modified xsi:type="dcterms:W3CDTF">2011-11-28T04:14:34Z</dcterms:modified>
  <cp:revision>11</cp:revision>
  <dc:subject/>
  <dc:title>The manifes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1</vt:r8>
  </property>
</Properties>
</file>